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65A-0593-43D6-8300-2FDF84DE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B85-DC8B-4CE8-8DA9-92C7FD9B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A81-2BD9-41F2-A7F0-50DB3F12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491-FB7B-4205-A21F-073D1AB3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178F4-8298-4B30-B416-34210845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69EF2-5462-43C4-8F37-318DBEDA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5EDC0-FFD5-4587-A566-B5EB28EF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80F94-923B-428F-8BA9-568C0D3B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AD1B-8E80-4CFE-AC5D-8A6E5563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7D7F0-4219-4B45-8C1D-E5A3507A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85A9B-8923-4472-8DEB-80B461A0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43F-8F40-4519-9222-4B7A70B2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C4EA3-2FFE-4B1E-A67E-233C6BE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CB681-4F03-433A-AD9B-E4CCD30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6D3C5-ECDA-45CC-A970-B203BA0E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E31C5-762B-4048-830D-D90CEFCF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80654-8635-4366-89B2-C4B3D737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1270-C296-48CC-8187-B34F42D2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B5B1-F326-473A-9D78-1A291329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0F0BF-FC32-45F4-8FC8-43993894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E97A-F329-424B-995A-37566165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C802-2518-4541-B442-9EE7BA51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E10-75DA-4B52-B3CE-B5FB028A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1B06-236A-4DF4-9BB6-B4B29544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9B51-B6C8-4854-9056-03502A4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83BB-15A1-4F6A-A2FA-814DBD6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EBBA-FB25-4599-8C2D-6F513438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C027-99D8-42C3-A620-5D86E86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1397-025C-4D79-8DD8-6646601B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AC52-A350-4537-A180-F1B03EE0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7496-B485-460F-8A30-8F169A96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4CCB-555E-455F-A44B-B3E9F9DF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4319-2516-4CAC-90C9-3583C67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58B-FE90-46EC-BD3F-538518A1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5623-8944-4D5B-989B-4E6BD3E2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292E-A608-42CA-BBE2-85941583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77937-6B7B-46C5-805A-96EE8BD4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E1FA-F87B-4A5B-9F5F-ACB4F0ED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F784-28E5-4A0C-8677-C962E7CB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59CB-6EEB-44E1-91A6-BFB6FAE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8AD6-8AA6-4F90-9372-381DB8B2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A221-A665-4484-B32C-FEBFD5D4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0654-D3E7-480C-A618-52E2D20B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7E57-644E-4132-BD3F-748E2C80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F23-B4C6-474F-B6AE-DF24DAB9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A7C66-B4FD-4B48-94DF-155C0A0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50610-AAF1-41F7-95DC-F2265F1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BB94C-38BB-4ABA-8C29-75DF7B70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87E3-320D-4F69-954E-ED1154FB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7A5F4-076A-45C3-86F8-615CA9CA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E2FF-395D-442B-81C8-37CFFAAE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55D1-56FE-49A4-89C6-C31893BF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F1711-40C1-4C80-9292-B941E9F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88738-E36E-44A6-881F-D68E4E3A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857A-E88C-4C85-9468-5A0A5AC9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9CC-B04B-4D12-8372-4B40C929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7DBD-4BC4-473E-ACB1-C4BDCB02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95F4-F2AB-408E-BFB3-912741D8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E31A-C8E2-4AA8-B933-76D9401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111DC-224B-4C65-B146-B5AB300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171E5-F592-42EA-8702-22ABB2D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042B6-E78D-4F5A-B015-C800C3E8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8BB2E-B168-4474-9EAF-54761F9D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C6BB0-0FBE-4984-9D60-2309DE33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7926-1D98-4A85-830E-7817A2EF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D19BD-1625-4DC6-8E5A-5CA91A3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213-DF24-42C9-AA8B-787C59C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4673A-8A91-4737-A12E-05B9F8B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0773-CA3D-4DF2-BE40-B12B49BE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19B1-E87B-4ECD-ADC9-4878AAAC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9EBCD-F338-41CB-B7DD-C534DC30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947EF-7633-415E-80D9-B0153AA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7F373-B80E-4DB5-B54A-A2F8A0C7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02BFC-F2A4-4AAD-8F2D-BE418DD0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32EA4-BB81-42F6-B24F-645DAA19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22D2-0284-4516-BC0A-28156326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5223F-1C23-4DFE-B7CF-709CD09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DB0-E332-4667-A9D6-1FFFD008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517B-BC19-49D7-8365-ACCD4CE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2683-7633-45F9-9ED1-91CF8C51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97E37-5700-4A58-9D6F-00261648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68FC-CA25-4D70-ABCC-F918A746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35B4E-C497-43F7-869C-EC5ECBFB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C4A79-AFDF-4D28-9E50-64734127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E332-2783-42C9-96D2-14726A91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A9CF5-3DD2-48D7-8FC6-3CFBF037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649C6-B43F-4F79-801A-B30BF68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C8D36-FD00-47A2-86CB-7AE8323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BDF-6A0F-4E18-B148-A6D90EE6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396CB-0585-45ED-812C-CD2C69A7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12227-DC05-41B9-B809-8CA4E9B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FED62-2EA4-4AF8-B7B2-2B938CB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1E5D0-F0E7-4572-AF19-B06B1345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552CC-D24F-48D8-B717-4508A0D6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DD8C9-5F8E-4D5E-9B0A-97CDE2A3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3B0D0-32EC-49C5-A7BC-1B96F1A0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37CFB-3FAF-4C19-B026-89B9BAC9B205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82B16-F1AA-4F17-BA57-E0A965B1BA6B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Rectangle 14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57531-E722-43BF-96E1-2BDD8D473C98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8" name="Straight Connector 11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6269E-EAC2-4BA5-A098-C946F8D22AE6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40AD2-FC09-4472-8688-3EDD265D805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44287-BAED-499D-90CD-D2E86738E0F1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Rectangle 13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3AC53-0BD6-4D5E-ACD5-06CCBC80F1C2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3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FF355-03FD-4379-923B-74143916696E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I’d Rather…</a:t>
            </a:r>
            <a:br>
              <a:rPr sz="4600"/>
            </a:b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preferences adapted from </a:t>
            </a:r>
            <a:br>
              <a:rPr sz="4600"/>
            </a:b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El Condor Pas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For Els at I level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have a monkey than a zebra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Hung Ho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0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51240" y="666720"/>
            <a:ext cx="6140160" cy="54640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be a carpenter than a coach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Anthony Navarro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9520" y="627120"/>
            <a:ext cx="8475840" cy="5751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962a2"/>
                </a:solidFill>
                <a:latin typeface="Calisto MT"/>
              </a:rPr>
              <a:t>What would you rather have,____or _____?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</a:t>
            </a:r>
            <a:r>
              <a:rPr b="0" lang="en-US" sz="5200" spc="-1" strike="noStrike" u="sng">
                <a:solidFill>
                  <a:srgbClr val="ff2929"/>
                </a:solidFill>
                <a:uFillTx/>
                <a:latin typeface="Calisto MT"/>
              </a:rPr>
              <a:t>have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_____...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_____.....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because….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407880" y="306540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2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407880" y="914400"/>
            <a:ext cx="15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1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09520" y="627120"/>
            <a:ext cx="8475840" cy="5751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962a2"/>
                </a:solidFill>
                <a:latin typeface="Calisto MT"/>
              </a:rPr>
              <a:t>What would you rather be;____or _____?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</a:t>
            </a:r>
            <a:r>
              <a:rPr b="0" lang="en-US" sz="5200" spc="-1" strike="noStrike" u="sng">
                <a:solidFill>
                  <a:srgbClr val="ff2929"/>
                </a:solidFill>
                <a:uFillTx/>
                <a:latin typeface="Calisto MT"/>
              </a:rPr>
              <a:t>be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a_____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_____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because….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407880" y="306540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2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TextBox 6"/>
          <p:cNvSpPr/>
          <p:nvPr/>
        </p:nvSpPr>
        <p:spPr>
          <a:xfrm>
            <a:off x="407880" y="914400"/>
            <a:ext cx="15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1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09520" y="627120"/>
            <a:ext cx="8475840" cy="5751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962a2"/>
                </a:solidFill>
                <a:latin typeface="Calisto MT"/>
              </a:rPr>
              <a:t>What would you rather drink/eat,____or _____?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</a:t>
            </a:r>
            <a:r>
              <a:rPr b="0" lang="en-US" sz="5200" spc="-1" strike="noStrike" u="sng">
                <a:solidFill>
                  <a:srgbClr val="ff2929"/>
                </a:solidFill>
                <a:uFillTx/>
                <a:latin typeface="Calisto MT"/>
              </a:rPr>
              <a:t>drink/eat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_____than _____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because….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407880" y="306540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2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407880" y="914400"/>
            <a:ext cx="15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1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9520" y="627120"/>
            <a:ext cx="8475840" cy="57513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962a2"/>
                </a:solidFill>
                <a:latin typeface="Calisto MT"/>
              </a:rPr>
              <a:t>What would you prefer to drink/eat,____or _____?</a:t>
            </a:r>
            <a:br>
              <a:rPr sz="5200"/>
            </a:b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prefer _____to_____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because….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407880" y="306540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2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407880" y="914400"/>
            <a:ext cx="15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Partner 1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9160" y="118260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be a sparrow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a snail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6350040" y="914400"/>
            <a:ext cx="2457360" cy="2151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6381720" y="3305160"/>
            <a:ext cx="24256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09160" y="118260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be a hammer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a nail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367" name="Picture 8" descr=""/>
          <p:cNvPicPr/>
          <p:nvPr/>
        </p:nvPicPr>
        <p:blipFill>
          <a:blip r:embed="rId1"/>
          <a:stretch/>
        </p:blipFill>
        <p:spPr>
          <a:xfrm>
            <a:off x="6416640" y="2908440"/>
            <a:ext cx="2427480" cy="24271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9"/>
          <p:cNvSpPr/>
          <p:nvPr/>
        </p:nvSpPr>
        <p:spPr>
          <a:xfrm>
            <a:off x="7719840" y="19558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2"/>
          <a:stretch/>
        </p:blipFill>
        <p:spPr>
          <a:xfrm>
            <a:off x="6505560" y="790560"/>
            <a:ext cx="2019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9160" y="118260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be a _____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a _____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09160" y="118260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would rather have a _____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a _____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_______</a:t>
            </a:r>
            <a:br>
              <a:rPr sz="5200"/>
            </a:br>
            <a:r>
              <a:rPr b="0" lang="en-US" sz="5200" spc="-1" strike="noStrike">
                <a:solidFill>
                  <a:srgbClr val="ffff00"/>
                </a:solidFill>
                <a:latin typeface="Calisto MT"/>
              </a:rPr>
              <a:t>verb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_____... 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than _____.....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paint a picture than push a wagon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Bryanna Diaz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have a family than be wealthy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Kevin Fierros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98040" y="1838160"/>
            <a:ext cx="6140520" cy="4540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’d rather draw a dog than climb a tree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Yes I would,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 if I could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I surely would.</a:t>
            </a:r>
            <a:br>
              <a:rPr sz="5200"/>
            </a:br>
            <a:r>
              <a:rPr b="0" lang="en-US" sz="5200" spc="-1" strike="noStrike">
                <a:solidFill>
                  <a:srgbClr val="ff2929"/>
                </a:solidFill>
                <a:latin typeface="Calisto MT"/>
              </a:rPr>
              <a:t>-Rosa Hernandez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209520" y="914400"/>
            <a:ext cx="70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7515360" y="2695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6:42Z</dcterms:created>
  <dc:creator>City School</dc:creator>
  <dc:description/>
  <dc:language>en-US</dc:language>
  <cp:lastModifiedBy>122790</cp:lastModifiedBy>
  <dcterms:modified xsi:type="dcterms:W3CDTF">2011-07-07T21:20:36Z</dcterms:modified>
  <cp:revision>15</cp:revision>
  <dc:subject/>
  <dc:title>I’d Rather adapted from</dc:title>
</cp:coreProperties>
</file>